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FB6-5F65-4DB9-BA4E-DFA022D8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851-1650-4408-A646-190EE7AE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9C2-D764-4DF0-9CF1-7B31D72C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06E-2E7F-41AF-B7F2-8A6161F3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92-A3C9-44F0-B330-AAC04DE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61C-467E-4FC4-8BED-8A5FC9E8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2D5-053A-4080-8055-DFA71746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9EE-4C1C-4CB9-83F7-458915AC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3C8-94E8-4AA3-B83F-29DC5B97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FA1-353A-4265-864C-F0464CE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C58-5E0E-4424-8C18-96491CA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062-B2D5-4E67-BA80-B40146D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E6467-3D32-4FEF-A362-91795A8D0B7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339DE-CC14-405E-B97C-75C7114FB7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42-34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est Group Explo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41-34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erest Group Explo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 the past several decades, the number of interest groups has skyrocket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ed around occupations, industries, and prof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 90% located in Washington, D.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Explosion? – Technolog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ier lobbying by interest grou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ier for citizens to lobby policymak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creen shot 2012-01-03 at 2.52.39 PM.png"/>
          <p:cNvPicPr/>
          <p:nvPr/>
        </p:nvPicPr>
        <p:blipFill>
          <a:blip r:embed="rId2"/>
          <a:stretch/>
        </p:blipFill>
        <p:spPr>
          <a:xfrm>
            <a:off x="0" y="88740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90520" y="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5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,000 Interest Grou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2,000 Interest Group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ion by someone other than a citizen acting on his own behalf, directed to a governmental decision maker with the hope of influencing his decision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basic types of lobbyis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r, paid employees of a gro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porary h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b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bbyis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a source of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politicians plan political strategies for legis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politicians plan political strategies for reelection campa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a source of ideas and innov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xed evidence as to whether lobbying wor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ioneer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rect group involvement in the election pro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roups can help fund campaigns, provide testimony, and get members to work for candidates; some form PAC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al Action Committee (PAC)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litical funding vehicles created by 1974 campaign finance refor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are used by interest groups to donate money to candidat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help pay the bill for increasing campaign cos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PAC money goes to incumben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an interest group fails in one arena, the courts may be able to provide a remed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est groups can file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amicus curia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iefs to influence a court’s decis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amicus curiae: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riefs submitted by a “friend of the court” to raise additional points of view and present information not contained in the briefs of the formal par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Action lawsuits permit a small number of people to sue on behalf of all other people similar situat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Groups Try to Shape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Publ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public opinion makes its way to policymakers, groups try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ltivate a good public image to build a reservoir of goodwill with the publ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marketing strategies to influence public opinion of the group and its iss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e to motivate and inform the public about an 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51:41Z</dcterms:created>
  <dc:creator>Katie Madison</dc:creator>
  <dc:description/>
  <dc:language>en-US</dc:language>
  <cp:lastModifiedBy>FAdmin</cp:lastModifiedBy>
  <dcterms:modified xsi:type="dcterms:W3CDTF">2012-01-03T21:46:46Z</dcterms:modified>
  <cp:revision>5</cp:revision>
  <dc:subject/>
  <dc:title>How Groups Try to Shape Policy</dc:title>
</cp:coreProperties>
</file>